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7CB-8FA3-43AE-B7B4-179FB069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2B7-40E7-441B-8593-3B4390D7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568-2749-47E7-8759-9C7F139B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E1C-6015-4F81-A756-4FD5199D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D080-BB50-495A-B7CA-0262F592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3996-6813-4EC6-AF74-ACFB990D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26E7-DA13-476B-A426-EB3C781E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341F-AA53-474A-87FB-21F08AF9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F314-D23D-425F-A5E7-4EAD1EBF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3F85-13D3-4C7C-98FC-9EF00150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20FE-072E-4425-9EFD-9DD2649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595-D843-47D0-9921-0A55EEC7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2220-AA0F-4E17-B501-EAAEE7F0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FABD-5032-4B9D-9AEF-E0B351F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95C0-7D50-4F21-9132-E25911A2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52B1-1326-42C0-BEFA-53DDD227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7D29-76D1-4BE8-A470-153F83F1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6A2-1F5A-4F29-BBC3-4F78628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769-85F4-4060-92EB-E8BDF8EB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41A-9267-486F-90DC-4976E61F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0A7-9CC7-4674-BAE2-BA89A633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53B-D388-4EE7-8830-227079F1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66F-1118-4DDE-915E-84FD7B64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E6E-9A2C-4BDB-89E6-A4F7B4C7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6DEF-99E4-4E0A-8F63-472EFAFA7F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AF36-FD13-4183-9E1D-C32759CC69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I do before I rea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a reading purpose (why are we reading thi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the 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uthor’s background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unknown vocabulary (if nee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p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 I Mark Unknown Voca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iggly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27288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00" y="7582"/>
                </a:moveTo>
                <a:lnTo>
                  <a:pt x="5300" y="758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39840" y="2424240"/>
            <a:ext cx="1914480" cy="153720"/>
          </a:xfrm>
          <a:custGeom>
            <a:avLst/>
            <a:gdLst/>
            <a:ahLst/>
            <a:rect l="l" t="t" r="r" b="b"/>
            <a:pathLst>
              <a:path w="5321" h="431">
                <a:moveTo>
                  <a:pt x="3457" y="6896"/>
                </a:moveTo>
                <a:cubicBezTo>
                  <a:pt x="3414" y="6919"/>
                  <a:pt x="3474" y="6896"/>
                  <a:pt x="3447" y="6896"/>
                </a:cubicBezTo>
                <a:cubicBezTo>
                  <a:pt x="3457" y="6919"/>
                  <a:pt x="3451" y="6934"/>
                  <a:pt x="3467" y="6961"/>
                </a:cubicBezTo>
                <a:cubicBezTo>
                  <a:pt x="3486" y="6992"/>
                  <a:pt x="3506" y="7036"/>
                  <a:pt x="3531" y="7060"/>
                </a:cubicBezTo>
                <a:cubicBezTo>
                  <a:pt x="3579" y="7105"/>
                  <a:pt x="3603" y="7110"/>
                  <a:pt x="3663" y="7129"/>
                </a:cubicBezTo>
                <a:cubicBezTo>
                  <a:pt x="3723" y="7148"/>
                  <a:pt x="3777" y="7151"/>
                  <a:pt x="3840" y="7154"/>
                </a:cubicBezTo>
                <a:cubicBezTo>
                  <a:pt x="3922" y="7158"/>
                  <a:pt x="3996" y="7154"/>
                  <a:pt x="4066" y="7105"/>
                </a:cubicBezTo>
                <a:cubicBezTo>
                  <a:pt x="4128" y="7062"/>
                  <a:pt x="4178" y="7005"/>
                  <a:pt x="4238" y="6957"/>
                </a:cubicBezTo>
                <a:cubicBezTo>
                  <a:pt x="4258" y="6941"/>
                  <a:pt x="4294" y="6900"/>
                  <a:pt x="4321" y="6896"/>
                </a:cubicBezTo>
                <a:cubicBezTo>
                  <a:pt x="4386" y="6886"/>
                  <a:pt x="4440" y="6935"/>
                  <a:pt x="4483" y="6970"/>
                </a:cubicBezTo>
                <a:cubicBezTo>
                  <a:pt x="4513" y="6994"/>
                  <a:pt x="4529" y="7031"/>
                  <a:pt x="4562" y="7056"/>
                </a:cubicBezTo>
                <a:cubicBezTo>
                  <a:pt x="4593" y="7080"/>
                  <a:pt x="4624" y="7100"/>
                  <a:pt x="4660" y="7117"/>
                </a:cubicBezTo>
                <a:cubicBezTo>
                  <a:pt x="4718" y="7145"/>
                  <a:pt x="4745" y="7148"/>
                  <a:pt x="4807" y="7133"/>
                </a:cubicBezTo>
                <a:cubicBezTo>
                  <a:pt x="4826" y="7128"/>
                  <a:pt x="4853" y="7106"/>
                  <a:pt x="4871" y="7096"/>
                </a:cubicBezTo>
                <a:cubicBezTo>
                  <a:pt x="4903" y="7079"/>
                  <a:pt x="4933" y="7051"/>
                  <a:pt x="4964" y="7031"/>
                </a:cubicBezTo>
                <a:cubicBezTo>
                  <a:pt x="5031" y="6988"/>
                  <a:pt x="5101" y="6954"/>
                  <a:pt x="5170" y="6916"/>
                </a:cubicBezTo>
                <a:cubicBezTo>
                  <a:pt x="5210" y="6894"/>
                  <a:pt x="5279" y="6831"/>
                  <a:pt x="5327" y="6831"/>
                </a:cubicBezTo>
                <a:cubicBezTo>
                  <a:pt x="5338" y="6831"/>
                  <a:pt x="5356" y="6836"/>
                  <a:pt x="5366" y="6839"/>
                </a:cubicBezTo>
                <a:cubicBezTo>
                  <a:pt x="5415" y="6853"/>
                  <a:pt x="5464" y="6920"/>
                  <a:pt x="5499" y="6953"/>
                </a:cubicBezTo>
                <a:cubicBezTo>
                  <a:pt x="5538" y="6989"/>
                  <a:pt x="5594" y="7077"/>
                  <a:pt x="5646" y="7092"/>
                </a:cubicBezTo>
                <a:cubicBezTo>
                  <a:pt x="5676" y="7101"/>
                  <a:pt x="5705" y="7084"/>
                  <a:pt x="5735" y="7080"/>
                </a:cubicBezTo>
                <a:cubicBezTo>
                  <a:pt x="5840" y="7065"/>
                  <a:pt x="5915" y="6999"/>
                  <a:pt x="6004" y="6949"/>
                </a:cubicBezTo>
                <a:cubicBezTo>
                  <a:pt x="6059" y="6918"/>
                  <a:pt x="6116" y="6896"/>
                  <a:pt x="6176" y="6876"/>
                </a:cubicBezTo>
                <a:cubicBezTo>
                  <a:pt x="6211" y="6864"/>
                  <a:pt x="6255" y="6843"/>
                  <a:pt x="6294" y="6847"/>
                </a:cubicBezTo>
                <a:cubicBezTo>
                  <a:pt x="6314" y="6849"/>
                  <a:pt x="6340" y="6859"/>
                  <a:pt x="6358" y="6867"/>
                </a:cubicBezTo>
                <a:cubicBezTo>
                  <a:pt x="6406" y="6890"/>
                  <a:pt x="6431" y="6945"/>
                  <a:pt x="6485" y="6966"/>
                </a:cubicBezTo>
                <a:cubicBezTo>
                  <a:pt x="6516" y="6978"/>
                  <a:pt x="6558" y="6987"/>
                  <a:pt x="6589" y="6986"/>
                </a:cubicBezTo>
                <a:cubicBezTo>
                  <a:pt x="6659" y="6984"/>
                  <a:pt x="6703" y="6938"/>
                  <a:pt x="6765" y="6900"/>
                </a:cubicBezTo>
                <a:cubicBezTo>
                  <a:pt x="6817" y="6868"/>
                  <a:pt x="6865" y="6829"/>
                  <a:pt x="6917" y="6798"/>
                </a:cubicBezTo>
                <a:cubicBezTo>
                  <a:pt x="6955" y="6775"/>
                  <a:pt x="7026" y="6736"/>
                  <a:pt x="7069" y="6732"/>
                </a:cubicBezTo>
                <a:cubicBezTo>
                  <a:pt x="7130" y="6727"/>
                  <a:pt x="7170" y="6771"/>
                  <a:pt x="7207" y="6810"/>
                </a:cubicBezTo>
                <a:cubicBezTo>
                  <a:pt x="7240" y="6844"/>
                  <a:pt x="7235" y="6890"/>
                  <a:pt x="7290" y="6904"/>
                </a:cubicBezTo>
                <a:cubicBezTo>
                  <a:pt x="7334" y="6915"/>
                  <a:pt x="7381" y="6893"/>
                  <a:pt x="7423" y="6884"/>
                </a:cubicBezTo>
                <a:cubicBezTo>
                  <a:pt x="7498" y="6868"/>
                  <a:pt x="7570" y="6839"/>
                  <a:pt x="7644" y="6818"/>
                </a:cubicBezTo>
                <a:cubicBezTo>
                  <a:pt x="7702" y="6802"/>
                  <a:pt x="7760" y="6774"/>
                  <a:pt x="7820" y="6782"/>
                </a:cubicBezTo>
                <a:cubicBezTo>
                  <a:pt x="7868" y="6788"/>
                  <a:pt x="7891" y="6818"/>
                  <a:pt x="7933" y="6835"/>
                </a:cubicBezTo>
                <a:cubicBezTo>
                  <a:pt x="8051" y="6881"/>
                  <a:pt x="8186" y="6900"/>
                  <a:pt x="8316" y="6900"/>
                </a:cubicBezTo>
                <a:cubicBezTo>
                  <a:pt x="8416" y="6900"/>
                  <a:pt x="8548" y="6889"/>
                  <a:pt x="8640" y="6847"/>
                </a:cubicBezTo>
                <a:cubicBezTo>
                  <a:pt x="8686" y="6826"/>
                  <a:pt x="8722" y="6786"/>
                  <a:pt x="8763" y="6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5:10:49Z</dcterms:created>
  <dc:creator>Teacher</dc:creator>
  <dc:description/>
  <dc:language>en-US</dc:language>
  <cp:lastModifiedBy>Teacher</cp:lastModifiedBy>
  <dcterms:modified xsi:type="dcterms:W3CDTF">2009-11-12T15:14:59Z</dcterms:modified>
  <cp:revision>1</cp:revision>
  <dc:subject/>
  <dc:title>What do I do before I read?</dc:title>
</cp:coreProperties>
</file>